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AD43-A12A-490D-9A6E-7C7694CF694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079F-ACF8-4AAF-983D-46C59C5C6E95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15A-0833-482A-8CB4-199091F8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A89-4F54-4D56-A7AB-042B60FF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64A-BD88-424A-81E8-0045A680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B54-8038-414F-94E8-49744DF3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18F0-3535-4A03-8CB0-BB283892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7ECE-E6B5-41D3-A220-1EC435F9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C027-9007-4558-BBB9-3EB17F86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7870-3FDD-4FF0-B6C4-F6352D3D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D0CE-FBF6-410F-996C-28C2B163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88B9-1A03-4BD0-A071-CDE106F6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F59E-4BB1-4FC0-9FB9-509F84C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1ED-3EF5-4108-9466-ABB862FB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9512-26D3-48C1-8E3F-52F2A34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9E7B-DA36-47D8-9652-D8498775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7696-CD09-4110-96FA-ABBA8B1D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1501-EFEB-4191-8F92-346D8649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8FAA-7B35-451E-ADBE-92852BBF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A03-21EB-4172-909B-CE408969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26F-A9B1-4D41-935F-D231647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B83-A7C0-4C50-900A-D2996753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3F2-26A1-43D4-8233-C3C38D03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C81-56B6-4B22-8C5F-79CA2A1A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C9B-EF22-4323-9B3D-FDCC825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EED-FDD6-4212-A263-2EE4D6DF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040A-835E-47DE-9D91-0CE87BB0B55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DC24-FE0A-4E48-9764-1CC91B0ECE43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276720" y="3645000"/>
            <a:ext cx="3095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5" descr="Image result for atomic model"/>
          <p:cNvPicPr/>
          <p:nvPr/>
        </p:nvPicPr>
        <p:blipFill>
          <a:blip r:embed="rId1"/>
          <a:stretch/>
        </p:blipFill>
        <p:spPr>
          <a:xfrm>
            <a:off x="2987640" y="2637000"/>
            <a:ext cx="2571840" cy="28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Image result for atomic model"/>
          <p:cNvPicPr/>
          <p:nvPr/>
        </p:nvPicPr>
        <p:blipFill>
          <a:blip r:embed="rId2"/>
          <a:stretch/>
        </p:blipFill>
        <p:spPr>
          <a:xfrm>
            <a:off x="324000" y="2936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Image result for atomic model schrodinger"/>
          <p:cNvPicPr/>
          <p:nvPr/>
        </p:nvPicPr>
        <p:blipFill>
          <a:blip r:embed="rId3"/>
          <a:stretch/>
        </p:blipFill>
        <p:spPr>
          <a:xfrm>
            <a:off x="6084720" y="2911320"/>
            <a:ext cx="2590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est Rutherford proposed shooting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ttps://upload.wikimedia.org/wikipedia/commons/thumb/f/f9/Geiger-Marsden_experiment_expectation_and_result.svg/1024px-Geiger-Marsden_experiment_expectation_and_result.svg.png"/>
          <p:cNvPicPr/>
          <p:nvPr/>
        </p:nvPicPr>
        <p:blipFill>
          <a:blip r:embed="rId1"/>
          <a:stretch/>
        </p:blipFill>
        <p:spPr>
          <a:xfrm>
            <a:off x="1193760" y="692280"/>
            <a:ext cx="625320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particles should be undeflected but observed to bounce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Image result for rutherford model"/>
          <p:cNvPicPr/>
          <p:nvPr/>
        </p:nvPicPr>
        <p:blipFill>
          <a:blip r:embed="rId1"/>
          <a:stretch/>
        </p:blipFill>
        <p:spPr>
          <a:xfrm>
            <a:off x="539640" y="1197000"/>
            <a:ext cx="7620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4114800" y="765000"/>
            <a:ext cx="40132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(electromagnetic radiation) is emitted from matter at particular energies, or quanta (from Plan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 E=h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Energy E=-13.6eV/n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energy of the emitted photon when an electron drops from the 3rd to the first orbital?  What is the wavelength?  is it visi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Image result for bohr energy levels"/>
          <p:cNvPicPr/>
          <p:nvPr/>
        </p:nvPicPr>
        <p:blipFill>
          <a:blip r:embed="rId1"/>
          <a:stretch/>
        </p:blipFill>
        <p:spPr>
          <a:xfrm>
            <a:off x="1258920" y="-47520"/>
            <a:ext cx="727380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elated image"/>
          <p:cNvPicPr/>
          <p:nvPr/>
        </p:nvPicPr>
        <p:blipFill>
          <a:blip r:embed="rId1"/>
          <a:stretch/>
        </p:blipFill>
        <p:spPr>
          <a:xfrm>
            <a:off x="-1260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kanada atomic theory"/>
          <p:cNvPicPr/>
          <p:nvPr/>
        </p:nvPicPr>
        <p:blipFill>
          <a:blip r:embed="rId2"/>
          <a:stretch/>
        </p:blipFill>
        <p:spPr>
          <a:xfrm>
            <a:off x="4356000" y="2492280"/>
            <a:ext cx="1919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Image result for de broglie atomic theory"/>
          <p:cNvPicPr/>
          <p:nvPr/>
        </p:nvPicPr>
        <p:blipFill>
          <a:blip r:embed="rId1"/>
          <a:stretch/>
        </p:blipFill>
        <p:spPr>
          <a:xfrm>
            <a:off x="-27000" y="-206280"/>
            <a:ext cx="9631440" cy="72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Image result for de broglie atomic theory"/>
          <p:cNvPicPr/>
          <p:nvPr/>
        </p:nvPicPr>
        <p:blipFill>
          <a:blip r:embed="rId1"/>
          <a:stretch/>
        </p:blipFill>
        <p:spPr>
          <a:xfrm>
            <a:off x="28440" y="0"/>
            <a:ext cx="9007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468360" y="260280"/>
            <a:ext cx="763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Broglie said that electrons act like waves.  Waves resonate if the frequency is just right for the  container (musical instrumen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bital is the container for the electron and only certain orbitals will work for electrons of a certain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velength of a particl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h/p plank’s constant divided by its moment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Broglie derived this relationship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=hf, the energy of a photon and p=E/c =h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momentum of a photon so that the wave-particle duality that Einstein applied to photons also applied to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 (Heisenberg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 (Schrödinge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mage result for orbitals s p d f"/>
          <p:cNvPicPr/>
          <p:nvPr/>
        </p:nvPicPr>
        <p:blipFill>
          <a:blip r:embed="rId1"/>
          <a:stretch/>
        </p:blipFill>
        <p:spPr>
          <a:xfrm>
            <a:off x="-1440" y="0"/>
            <a:ext cx="9294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9" descr="Image result for atomic model schrodinger"/>
          <p:cNvPicPr/>
          <p:nvPr/>
        </p:nvPicPr>
        <p:blipFill>
          <a:blip r:embed="rId1"/>
          <a:stretch/>
        </p:blipFill>
        <p:spPr>
          <a:xfrm>
            <a:off x="1619280" y="94464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 p1049 q 46-48, 54,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Image result for atomic model schrodinger"/>
          <p:cNvPicPr/>
          <p:nvPr/>
        </p:nvPicPr>
        <p:blipFill>
          <a:blip r:embed="rId1"/>
          <a:stretch/>
        </p:blipFill>
        <p:spPr>
          <a:xfrm>
            <a:off x="324000" y="1760400"/>
            <a:ext cx="8256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25560" y="115920"/>
            <a:ext cx="836280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41400" y="307800"/>
            <a:ext cx="91026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8600" y="898200"/>
            <a:ext cx="4486320" cy="22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lated image"/>
          <p:cNvPicPr/>
          <p:nvPr/>
        </p:nvPicPr>
        <p:blipFill>
          <a:blip r:embed="rId1"/>
          <a:stretch/>
        </p:blipFill>
        <p:spPr>
          <a:xfrm>
            <a:off x="108000" y="11592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988640"/>
            <a:ext cx="5135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against atomic theory and believed everything was composed of the 5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nfluential for 2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Image result for aristotle"/>
          <p:cNvPicPr/>
          <p:nvPr/>
        </p:nvPicPr>
        <p:blipFill>
          <a:blip r:embed="rId1"/>
          <a:stretch/>
        </p:blipFill>
        <p:spPr>
          <a:xfrm>
            <a:off x="5148360" y="3747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iard b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of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Image result for john dalton billiard ball model"/>
          <p:cNvPicPr/>
          <p:nvPr/>
        </p:nvPicPr>
        <p:blipFill>
          <a:blip r:embed="rId1"/>
          <a:stretch/>
        </p:blipFill>
        <p:spPr>
          <a:xfrm>
            <a:off x="4896000" y="6480"/>
            <a:ext cx="4032000" cy="40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mage result for john dalton billiard ball model"/>
          <p:cNvPicPr/>
          <p:nvPr/>
        </p:nvPicPr>
        <p:blipFill>
          <a:blip r:embed="rId2"/>
          <a:stretch/>
        </p:blipFill>
        <p:spPr>
          <a:xfrm>
            <a:off x="3995640" y="41814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Content Placeholder 5" descr="Image result for dalton atomic model"/>
          <p:cNvPicPr/>
          <p:nvPr/>
        </p:nvPicPr>
        <p:blipFill>
          <a:blip r:embed="rId1"/>
          <a:stretch/>
        </p:blipFill>
        <p:spPr>
          <a:xfrm>
            <a:off x="108000" y="1571760"/>
            <a:ext cx="876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age result for jj thomson"/>
          <p:cNvPicPr/>
          <p:nvPr/>
        </p:nvPicPr>
        <p:blipFill>
          <a:blip r:embed="rId1"/>
          <a:stretch/>
        </p:blipFill>
        <p:spPr>
          <a:xfrm>
            <a:off x="5076720" y="1125360"/>
            <a:ext cx="34340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3-29T20:34:31Z</dcterms:modified>
  <cp:revision>56</cp:revision>
  <dc:subject/>
  <dc:title>Sir Joseph John Thompson</dc:title>
</cp:coreProperties>
</file>